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58BB-33D5-4EFD-AD6F-1297B5C4A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129C-FFB9-4946-A746-FDF6B63FB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6068-89A5-4490-B24C-79C848ACB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E800-2CB2-4294-8AE7-718FA61F8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E62CE-5DA5-40D6-9102-D2CF2AC21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9A9D5-5D7D-4EC1-83F3-5F9236F2B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4BD8C-E8FD-4BE8-924D-49890807F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EE44B-F1F8-42A0-A72A-CAED733EB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9C5EC-24FB-46A9-99AB-266EF68B8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131CC-0B17-4C2D-A3D3-1C900CA10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9A7DA-F17A-4751-84E6-E99455D8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D6B1-82B3-4158-B981-865F684BC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C4290-5A06-4644-84DF-E567689B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245FF-40B2-44D5-B98F-6BCC90DC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BC23B-7E8F-41E0-AEF9-82768D63A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182E9-1F31-4012-89DB-0F61C1159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08E24-B688-4E9A-9324-3D4645AA9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3FB0-9DBE-43A8-AD00-418FF46F8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8C70-0551-40CD-9C39-83E0E8700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4D75-2F99-41D5-9C2F-DCC1BB7D9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7E89-B2F4-46DA-8016-CCF1F03C3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A10A-C228-4082-A8A1-C8BFE6A1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D9E0-45E0-4E7C-BD58-D69C033A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933B-F36C-43E8-8207-4F9434AD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61D3F-37E9-458E-A491-36220AF4162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6F585-4040-45B8-B718-7A63C0F92F4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066320" y="8377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00"/>
                </a:solidFill>
                <a:latin typeface="Times New Roman"/>
              </a:rPr>
              <a:t>ИНФЕКЦИЈЕ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Times New Roman"/>
              </a:rPr>
              <a:t>ИЗАЗВ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sr-RS" sz="2800" spc="-1" strike="noStrike">
                <a:solidFill>
                  <a:srgbClr val="ffff00"/>
                </a:solidFill>
                <a:latin typeface="Times New Roman"/>
              </a:rPr>
              <a:t>НЕ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Times New Roman"/>
              </a:rPr>
              <a:t>Х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1" lang="sr-RS" sz="2800" spc="-1" strike="noStrike">
                <a:solidFill>
                  <a:srgbClr val="ffff00"/>
                </a:solidFill>
                <a:latin typeface="Times New Roman"/>
              </a:rPr>
              <a:t>РПЕС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Times New Roman"/>
              </a:rPr>
              <a:t>ВИРУСИ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00"/>
                </a:solidFill>
                <a:latin typeface="Times New Roman"/>
              </a:rPr>
              <a:t>Проф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. </a:t>
            </a:r>
            <a:r>
              <a:rPr b="1" lang="sr-RS" sz="2800" spc="-1" strike="noStrike">
                <a:solidFill>
                  <a:srgbClr val="ffff00"/>
                </a:solidFill>
                <a:latin typeface="Times New Roman"/>
              </a:rPr>
              <a:t>др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Times New Roman"/>
              </a:rPr>
              <a:t>Жељко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Times New Roman"/>
              </a:rPr>
              <a:t>Мијаилови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снов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чи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еношењ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ерпе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ел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ј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главн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ено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рал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крет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генитал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нтакт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1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З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Б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ЦМ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Х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6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Х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7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ј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етеж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ено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ксуал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нтакт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2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Х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8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Патогене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зроку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р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чи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ирект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естру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ки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крет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мунопатолошк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дгово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опластич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рансформ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ћел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Директн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деструкциј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ћел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ла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ћели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е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еузим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нтрол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иосинтетск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оцес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ћелиј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плик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пушт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в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ио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лиза</a:t>
            </a:r>
            <a:r>
              <a:rPr b="1" lang="sr-Latn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смрт</a:t>
            </a:r>
            <a:r>
              <a:rPr b="1" lang="sr-Latn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) 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инфициране</a:t>
            </a:r>
            <a:r>
              <a:rPr b="1" lang="sr-Latn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ћел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кокута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штећењ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1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2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З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рпе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сцерал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штећењ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нцефал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неумон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пат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1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2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З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рпе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М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066320" y="762120"/>
            <a:ext cx="7543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Покретањ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имунопатолошког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одгово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ултиформ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рит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емолитич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нем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ромбоцитопен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мунс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емијелинизирајућ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нцефал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еханиза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рансферза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ијел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Неопластичн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онкоген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трансформациј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)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ћел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Б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Х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8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нкоге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лова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Б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зофарингеа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рцин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јомиосарк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ни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ицира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И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Х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8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пошије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рк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мар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фузијс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6705720" y="2286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066320" y="152280"/>
            <a:ext cx="75438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Клиничке</a:t>
            </a:r>
            <a:r>
              <a:rPr b="1" i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манифест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укокута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сцерал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анифест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тра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централн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рвн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исте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алиг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анифест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Б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Х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8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актив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индро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0000"/>
                </a:solidFill>
                <a:latin typeface="Times New Roman"/>
              </a:rPr>
              <a:t>Имунокомпромитоване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0000"/>
                </a:solidFill>
                <a:latin typeface="Times New Roman"/>
              </a:rPr>
              <a:t>особе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клоност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исеминациј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инич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ног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учаје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тиолош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ол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казив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ге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Н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ролошки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~PP2015.WAV" descr=""/>
          <p:cNvPicPr/>
          <p:nvPr/>
        </p:nvPicPr>
        <p:blipFill>
          <a:blip r:embed="rId11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HERPES SIMPLEX VIRUS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914040"/>
            <a:ext cx="7543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Ет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упфамил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лф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ерпесвирус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1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2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омолог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минокиселинск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квенц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5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ж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лтивиса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а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убрег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уман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мбрио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уман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мнио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ума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плоид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а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итопатоге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фека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ављ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ћ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4-48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кругл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лаз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алонс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генер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упиш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вар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ишеједарн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џиновск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ћел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рануклеус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клузија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066320" y="304920"/>
            <a:ext cx="75438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Епидем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ашире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читав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вет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Једи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ирод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зервоа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чове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зрокова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1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ешав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ано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     животно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об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0%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пул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50.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ди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иво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ецифич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те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рокова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2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шав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ко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олесцен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14.-29.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ди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ецифич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тел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лаз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0-60% (80%)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расл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пул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актив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1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шав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0-25%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2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0-20%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учаје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19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19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0,65-15%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пулациј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прекидно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19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уч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иру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990360" y="304920"/>
            <a:ext cx="75438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во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об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нифест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симптоматс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онош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р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актив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ушење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обно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        температур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ширењ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еросолом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иј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огућ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но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1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рект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ак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ицира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ал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крет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но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2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рект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ак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ицира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нитал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крет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п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г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не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личит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окализ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ал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нитал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акт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ош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ц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кономс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лов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ећав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циденц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мар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1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ксуал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тивно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2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066320" y="762120"/>
            <a:ext cx="7543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оме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ж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лузокожа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ок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имар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курирајућ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тив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фету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рансплацентар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ем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ј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к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мар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инатал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нита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гина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рпе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ј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к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ођа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фесионал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ложено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оматолоз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дниц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И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с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к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066320" y="304560"/>
            <a:ext cx="75438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кре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1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љувачк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ра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7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дељ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злечењ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томатити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ниц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имар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енитал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езија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араз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7-12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а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цидив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4-7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а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куб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ра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2-12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Патогене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лаза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пител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ћел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плик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0%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ицирани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инич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нифест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ингивостомат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ератокоњунктив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нита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рпе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ицира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окал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ламацијс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ак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ире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окал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inuitat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66320" y="-360"/>
            <a:ext cx="75438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пречав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ем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исемин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крофаз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оци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штит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тел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ерферо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унодефицијен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хватањ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исцералних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рган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НС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моинфек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гр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сон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хваће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нзор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утоном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рв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лак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нзор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англ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Ц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њ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ено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чме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жди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игемину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ХСВ</a:t>
            </a:r>
            <a:r>
              <a:rPr b="1" lang="sr-Latn-CS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-1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нзор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англ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њ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ено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чме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жди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ХСВ</a:t>
            </a:r>
            <a:r>
              <a:rPr b="1" lang="sr-Latn-CS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-2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атенциј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Н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75438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eaeaea"/>
                </a:solidFill>
                <a:latin typeface="Times New Roman"/>
              </a:rPr>
              <a:t>HERPESVIRUSI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42560" y="1268280"/>
            <a:ext cx="7543800" cy="52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ко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100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8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зрокује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бољењ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људ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пекта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азличит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бољењ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себ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дли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живот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зистен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маћи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иодич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актив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ст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актив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уносупримира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об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ш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лик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активира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г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и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инич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тпу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личит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мар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ољењ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људ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ази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8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рс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рпе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rpes simplex tip 1 i 2, Varicella-zoster, Cytomegalovirus, Epstein-Barr virus i humani herpes virusi 6, 7 i 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066320" y="304560"/>
            <a:ext cx="75438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мунодефицијен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ормонал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оме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физич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сихич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раум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алиг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муносупресив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ерап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плик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Н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з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ицира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нтрифугал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ире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Н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ифер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нзор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рв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пител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ж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узни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лет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плик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ире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 continuitat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1532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анифест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следиц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имунопатолошких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збивањ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накрс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активно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змеђ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отеи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ожњач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ерат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ем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висцералн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дисемин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јет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лућ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ЦН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диц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ј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плик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рази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унодефицијен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нкогено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елов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каза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е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лић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териц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со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та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ак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2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с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ме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ртне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роч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езанос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AutoShape 4"/>
          <p:cNvSpPr/>
          <p:nvPr/>
        </p:nvSpPr>
        <p:spPr>
          <a:xfrm>
            <a:off x="3733920" y="1600200"/>
            <a:ext cx="485640" cy="609480"/>
          </a:xfrm>
          <a:prstGeom prst="downArrow">
            <a:avLst>
              <a:gd name="adj1" fmla="val 50000"/>
              <a:gd name="adj2" fmla="val 31375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990360" y="0"/>
            <a:ext cx="75438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Клиничка</a:t>
            </a:r>
            <a:r>
              <a:rPr b="1" i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Примарн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инфек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ниц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е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утралишућ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нтител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оти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пш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имптом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окал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оме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Рекурирајућ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ниц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утралишућ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нтител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оти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е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пшт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импто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е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окализациј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укокута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анифест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кулар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оната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ерпе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ерпе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имплек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нцефал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руг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анифест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eaeaea"/>
                </a:solidFill>
                <a:latin typeface="Times New Roman"/>
              </a:rPr>
              <a:t>Према</a:t>
            </a:r>
            <a:r>
              <a:rPr b="1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eaeaea"/>
                </a:solidFill>
                <a:latin typeface="Times New Roman"/>
              </a:rPr>
              <a:t>патогенетском</a:t>
            </a:r>
            <a:r>
              <a:rPr b="1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eaeaea"/>
                </a:solidFill>
                <a:latin typeface="Times New Roman"/>
              </a:rPr>
              <a:t>механизму</a:t>
            </a:r>
            <a:r>
              <a:rPr b="1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eaeaea"/>
                </a:solidFill>
                <a:latin typeface="Times New Roman"/>
              </a:rPr>
              <a:t>настанка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762120" y="1219320"/>
          <a:ext cx="8001000" cy="5175000"/>
        </p:xfrm>
        <a:graphic>
          <a:graphicData uri="http://schemas.openxmlformats.org/drawingml/2006/table">
            <a:tbl>
              <a:tblPr/>
              <a:tblGrid>
                <a:gridCol w="2174760"/>
                <a:gridCol w="2930400"/>
                <a:gridCol w="28958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имарна</a:t>
                      </a: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нфекција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екурентна</a:t>
                      </a: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нфекција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erpes simplex virus tip 1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ff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Gingivostomatiti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ff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Keratoconjunctiviti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ff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Kutani herpe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ff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Genitalni herpe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ff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ncephalitis</a:t>
                      </a:r>
                      <a:r>
                        <a:rPr b="1" lang="sr-Latn-C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66ff33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24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Herpes labiali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66ff33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24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Keratoconjunctiviti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66ff33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24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Kutani herpe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66ff33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24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Encephalitis</a:t>
                      </a:r>
                      <a:r>
                        <a:rPr b="1" lang="sr-Latn-C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erpes simplex virus tip 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ff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Genitalni herpe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ff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Kutani herpe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ff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Gingivostomatiti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ff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Neonatalni herpes meningiti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66ff33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24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Genitalni herpe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66ff33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24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Proctiti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66ff33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24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Perianalni herpe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800" spc="-1" strike="noStrike">
                <a:solidFill>
                  <a:srgbClr val="ffff00"/>
                </a:solidFill>
                <a:latin typeface="Times New Roman"/>
              </a:rPr>
              <a:t>МУКОКУТАНЕ</a:t>
            </a: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RS" sz="2800" spc="-1" strike="noStrike">
                <a:solidFill>
                  <a:srgbClr val="ffff00"/>
                </a:solidFill>
                <a:latin typeface="Times New Roman"/>
              </a:rPr>
              <a:t>МАНИФЕСТАЦИЈЕ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06668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A.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Орофарингеалн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a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инфек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имар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бич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змеђ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1.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3.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оди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јчешћ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e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симптоматс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Ging</a:t>
            </a:r>
            <a:r>
              <a:rPr b="1" i="1" lang="sr-Latn-CS" sz="2400" spc="-1" strike="noStrike">
                <a:solidFill>
                  <a:srgbClr val="66ff33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vost</a:t>
            </a:r>
            <a:r>
              <a:rPr b="1" i="1" lang="sr-Latn-CS" sz="2400" spc="-1" strike="noStrike">
                <a:solidFill>
                  <a:srgbClr val="66ff33"/>
                </a:solidFill>
                <a:latin typeface="Times New Roman"/>
              </a:rPr>
              <a:t>o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mati</a:t>
            </a:r>
            <a:r>
              <a:rPr b="1" i="1" lang="sr-Latn-CS" sz="2400" spc="-1" strike="noStrike">
                <a:solidFill>
                  <a:srgbClr val="66ff33"/>
                </a:solidFill>
                <a:latin typeface="Times New Roman"/>
              </a:rPr>
              <a:t>ti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s</a:t>
            </a:r>
            <a:r>
              <a:rPr b="1" i="1" lang="sr-Latn-C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herp</a:t>
            </a:r>
            <a:r>
              <a:rPr b="1" i="1" lang="sr-Latn-CS" sz="2400" spc="-1" strike="noStrike">
                <a:solidFill>
                  <a:srgbClr val="66ff33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tica</a:t>
            </a:r>
            <a:r>
              <a:rPr b="1" i="1" lang="sr-Latn-C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seu</a:t>
            </a:r>
            <a:r>
              <a:rPr b="1" i="1" lang="sr-Latn-C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aphto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а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фтоз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лцероз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томат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ра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2-3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љ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више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ел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емп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ату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црвенил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ес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тва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икул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укално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лузниц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језик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а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с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гионал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имф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жлез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зикул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ск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ц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ал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u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б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чно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ран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066320" y="106668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иференцијал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трептокок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нг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ерпанг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тив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ононукле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фтоз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томат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лау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нсенто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нг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evens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ohnsonov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индр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295280" y="776160"/>
            <a:ext cx="7315200" cy="531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7543800" cy="30477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"/>
          <p:cNvPicPr/>
          <p:nvPr/>
        </p:nvPicPr>
        <p:blipFill>
          <a:blip r:embed="rId2"/>
          <a:stretch/>
        </p:blipFill>
        <p:spPr>
          <a:xfrm>
            <a:off x="2286000" y="3809880"/>
            <a:ext cx="541008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10640" cy="495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990360" y="-360"/>
            <a:ext cx="75438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имар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долесцена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драсл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аринг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индром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личан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фективној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ононуклеоз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курент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олабијал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1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i="1" lang="sr-Latn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herpes labialis seu febrilis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јчешћ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инич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нифест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активира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тент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др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јум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ећ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њ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руптив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јум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уп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урић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к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ид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волу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ме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дију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уст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ич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3-4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окализова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јчешћ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ласк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ж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узокож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а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чи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o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ц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гио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лез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066320" y="765000"/>
            <a:ext cx="75438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Times New Roman"/>
              </a:rPr>
              <a:t>Građa i sasta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ели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в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в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руп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лич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рађ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г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ликова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лектронск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кроскоп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Језгро</a:t>
            </a:r>
            <a:r>
              <a:rPr b="1" lang="sr-Latn-CS" sz="24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гласт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ли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воланча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Н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Протеински</a:t>
            </a:r>
            <a:r>
              <a:rPr b="1" lang="sr-Latn-CS" sz="24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омотач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козаедар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метр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62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псоме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уклеокапси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круже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спољашњ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омотаче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тич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едар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мбра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ицира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мотач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гликопротеински</a:t>
            </a:r>
            <a:r>
              <a:rPr b="1" lang="sr-Latn-CS" sz="24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шиљц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међ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псид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мотач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морф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нека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симетрич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укту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тегумен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1828800" y="1371600"/>
            <a:ext cx="586728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543800" cy="51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1447920" y="914400"/>
            <a:ext cx="624816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066320" y="0"/>
            <a:ext cx="75438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B.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Гениталн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инфек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имар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2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чешћ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г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1)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јчешћ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долесцена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лађ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драсл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соб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ећи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ни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симптоматс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њ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ро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зикулар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нос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лцератив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ме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шкарци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н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ни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ианал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ене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ул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инеу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ги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рвик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гвинал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аденопат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зурич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гоб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гоб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3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ељ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сек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ш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мптом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г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р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и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раже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Рекурентни</a:t>
            </a:r>
            <a:r>
              <a:rPr b="1" lang="sr-Latn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генитални</a:t>
            </a:r>
            <a:r>
              <a:rPr b="1" lang="sr-Latn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херпе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нитал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абије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езите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аћ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ј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54380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066320" y="8377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Ц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.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Кутан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манифест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ја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езикул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руг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гијам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ла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ра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аме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ец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топијск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нституциј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1-3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оди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i="1" lang="sr-Latn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Eczema herpetic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со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перату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чај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ро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хурић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ц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голићив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чај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рши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ж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вар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ус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семин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нинг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нцеф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ртно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0-25%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066320" y="762120"/>
            <a:ext cx="7543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Times New Roman"/>
              </a:rPr>
              <a:t>Paronychia herpetica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томатол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2590920" y="2438280"/>
            <a:ext cx="350496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800" spc="-1" strike="noStrike">
                <a:solidFill>
                  <a:srgbClr val="ffff00"/>
                </a:solidFill>
                <a:latin typeface="Times New Roman"/>
              </a:rPr>
              <a:t>ОКУЛАРНЕ</a:t>
            </a: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RS" sz="2800" spc="-1" strike="noStrike">
                <a:solidFill>
                  <a:srgbClr val="ffff00"/>
                </a:solidFill>
                <a:latin typeface="Times New Roman"/>
              </a:rPr>
              <a:t>ИНФЕКЦИЈЕ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јчешћ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имар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ож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утоинокул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ес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курент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Једнострани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фоликуларни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коњунктив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бич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ец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гионални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имфаден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езикулоз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лефар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узе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Кератокоњунктивитис</a:t>
            </a:r>
            <a:r>
              <a:rPr b="1" i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и</a:t>
            </a:r>
            <a:r>
              <a:rPr b="1" i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херпес</a:t>
            </a:r>
            <a:r>
              <a:rPr b="1" i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керат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оце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ендритич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шир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ст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лцер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рнеал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роз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Рекурентни</a:t>
            </a:r>
            <a:r>
              <a:rPr b="1" i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иридоциклитис</a:t>
            </a:r>
            <a:r>
              <a:rPr b="1" i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пануве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ог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и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зрокова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800" spc="-1" strike="noStrike">
                <a:solidFill>
                  <a:srgbClr val="ffff00"/>
                </a:solidFill>
                <a:latin typeface="Times New Roman"/>
              </a:rPr>
              <a:t>НЕОНАТАЛНИ</a:t>
            </a: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RS" sz="2800" spc="-1" strike="noStrike">
                <a:solidFill>
                  <a:srgbClr val="ffff00"/>
                </a:solidFill>
                <a:latin typeface="Times New Roman"/>
              </a:rPr>
              <a:t>ХЕРПЕС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914040"/>
            <a:ext cx="7543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б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зроку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оната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ерпе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ног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чешћ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2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нгенитал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т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оната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ерпе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јчешћ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диц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инатал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удниц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3.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иместр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со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изи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те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рем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гиналн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ођа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иса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учајев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нсмис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алн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рпе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ј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дби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ничк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обљ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т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јтеж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ли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онаталн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рпе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i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erpes </a:t>
            </a:r>
            <a:r>
              <a:rPr b="1" i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i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i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i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i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ceral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лтиорганс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зент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Н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ућ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ет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адбубрез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ези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ч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ж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ртно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50-80%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eaeaea"/>
                </a:solidFill>
                <a:latin typeface="Times New Roman"/>
              </a:rPr>
              <a:t>HSV</a:t>
            </a:r>
            <a:r>
              <a:rPr b="1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1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eaeaea"/>
                </a:solidFill>
                <a:latin typeface="Times New Roman"/>
              </a:rPr>
              <a:t>електронској</a:t>
            </a:r>
            <a:r>
              <a:rPr b="1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eaeaea"/>
                </a:solidFill>
                <a:latin typeface="Times New Roman"/>
              </a:rPr>
              <a:t>микроскопији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1225440" y="2432160"/>
            <a:ext cx="7226280" cy="32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800" spc="-1" strike="noStrike">
                <a:solidFill>
                  <a:srgbClr val="ffff00"/>
                </a:solidFill>
                <a:latin typeface="Times New Roman"/>
              </a:rPr>
              <a:t>ХЕРПЕС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RS" sz="2800" spc="-1" strike="noStrike">
                <a:solidFill>
                  <a:srgbClr val="ffff00"/>
                </a:solidFill>
                <a:latin typeface="Times New Roman"/>
              </a:rPr>
              <a:t>СИМПЛЕ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X </a:t>
            </a:r>
            <a:r>
              <a:rPr b="1" i="1" lang="sr-RS" sz="2800" spc="-1" strike="noStrike">
                <a:solidFill>
                  <a:srgbClr val="ffff00"/>
                </a:solidFill>
                <a:latin typeface="Times New Roman"/>
              </a:rPr>
              <a:t>ЕНЦЕФАЛИТИС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838080"/>
            <a:ext cx="75438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јчешћ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порадич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нцефал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2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ђ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јчешћ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зулта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имар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ђ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актив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атоанатомс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оме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јчешћ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порално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ронтотемпорално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гиј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зг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тогене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унс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гово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Н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поре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ск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центрациј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ракциј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лемент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тел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СТ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ежан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утрализациј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су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лно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сутн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унокомпетентн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личин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них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ртикул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ђућелијском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стору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ку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ск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шко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х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кривају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ген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зентујућ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066320" y="228600"/>
            <a:ext cx="7543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с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центр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аб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радњ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оци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↓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а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умора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гово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суств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штеће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уг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јекцио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лака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уро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цетил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олинск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п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ежа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узим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ц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а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цепто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наптичк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стор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поре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иоелектрич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тивнос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р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лас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Е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00%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ни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инич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вобољ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чни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раћ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фуз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емећа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ијент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сфаз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емећа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њ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ка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нерализова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пилептич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пад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рез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рализ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једи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анијал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ра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ст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мипаре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миплег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066320" y="762120"/>
            <a:ext cx="7543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јтеж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лиц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вулз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емећа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сањ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иркул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марн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ронталн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жањ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емећа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ијент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фуз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ет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мћењ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ежа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хват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убита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рол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финктер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Реактивација</a:t>
            </a:r>
            <a:r>
              <a:rPr b="1" lang="sr-Latn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латентног</a:t>
            </a:r>
            <a:r>
              <a:rPr b="1" lang="sr-Latn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виру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слепоочни</a:t>
            </a:r>
            <a:r>
              <a:rPr b="1" lang="sr-Latn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регион</a:t>
            </a:r>
            <a:r>
              <a:rPr b="1" lang="sr-Latn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мождано</a:t>
            </a:r>
            <a:r>
              <a:rPr b="1" lang="sr-Latn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стабл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сфаз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минал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фаз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емећа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ијент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оже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п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пад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иничк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и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нти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СВ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1 </a:t>
            </a:r>
            <a:r>
              <a:rPr b="1" lang="sr-R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гМ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СТ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ављају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к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сец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иничког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четк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ти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85%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учајев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9%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ају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в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ељ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ти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066320" y="304560"/>
            <a:ext cx="75438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т</a:t>
            </a:r>
            <a:r>
              <a:rPr b="1" lang="sr-RS" sz="20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серум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/</a:t>
            </a:r>
            <a:r>
              <a:rPr b="1" lang="sr-R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т</a:t>
            </a:r>
            <a:r>
              <a:rPr b="1" lang="sr-RS" sz="20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ЦСТ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&lt;20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к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0.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н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ти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ПЦР</a:t>
            </a:r>
            <a:r>
              <a:rPr b="1" lang="sr-Latn-CS" sz="2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у</a:t>
            </a:r>
            <a:r>
              <a:rPr b="1" lang="sr-Latn-CS" sz="2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ЦСТ</a:t>
            </a:r>
            <a:r>
              <a:rPr b="1" lang="sr-Latn-CS" sz="2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(</a:t>
            </a:r>
            <a:r>
              <a:rPr b="1" lang="sr-RS" sz="2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ХСВДНК</a:t>
            </a:r>
            <a:r>
              <a:rPr b="1" lang="sr-Latn-CS" sz="2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ЕГ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R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рап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Антиедемск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ксигенациј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изањ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глављ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пирањ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сихомоторног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мир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конвулзивн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рапиј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нитол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уросемид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пиретици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0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Ацикловир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10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г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г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8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в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Јединице</a:t>
            </a:r>
            <a:r>
              <a:rPr b="1" lang="sr-Latn-CS" sz="20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интезивног</a:t>
            </a:r>
            <a:r>
              <a:rPr b="1" lang="sr-Latn-CS" sz="20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лечењ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сајн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тпор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ј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с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ма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вирусн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рапи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ртно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80-9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0-30%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живел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ост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ј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диц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уролош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сихич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електуал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јчешћ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квел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пилепс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к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30%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учаје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763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800" spc="-1" strike="noStrike">
                <a:solidFill>
                  <a:srgbClr val="ffff00"/>
                </a:solidFill>
                <a:latin typeface="Times New Roman"/>
              </a:rPr>
              <a:t>ОСТАЛЕ</a:t>
            </a: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RS" sz="2800" spc="-1" strike="noStrike">
                <a:solidFill>
                  <a:srgbClr val="ffff00"/>
                </a:solidFill>
                <a:latin typeface="Times New Roman"/>
              </a:rPr>
              <a:t>МАНИФЕСТАЦИЈЕ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септич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енинг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рансферза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ијел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ерпе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неумон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ерпе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импл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епат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Инфекције</a:t>
            </a:r>
            <a:r>
              <a:rPr b="1" i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трудни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имо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ем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сцерал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семина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раутери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сто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време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ођај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нта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бача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ртворођено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990360" y="99036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рудниц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курирајућ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енитал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ерпес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ођа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инич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гле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ол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казив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Н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теријал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ођајн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к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удни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Негативан</a:t>
            </a:r>
            <a:r>
              <a:rPr b="1" lang="sr-Latn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нала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инич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љив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з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ођа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врши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род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т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Клинички</a:t>
            </a:r>
            <a:r>
              <a:rPr b="1" lang="sr-Latn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активна</a:t>
            </a:r>
            <a:r>
              <a:rPr b="1" lang="sr-Latn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ка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ол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Н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ниталн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крет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арс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066320" y="762120"/>
            <a:ext cx="7543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Инфекције</a:t>
            </a:r>
            <a:r>
              <a:rPr b="1" i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имунокомпромитованих</a:t>
            </a:r>
            <a:r>
              <a:rPr b="1" i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особ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сл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рансплант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ниц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алиг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т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ниц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емиотерапиј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ниц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имфопролифератив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т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ниц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И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ец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нгенитал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штећење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иму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рудни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сцерал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исемин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зофаг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неумон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епат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огресив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укокута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3581280" y="4267080"/>
            <a:ext cx="486000" cy="747720"/>
          </a:xfrm>
          <a:prstGeom prst="downArrow">
            <a:avLst>
              <a:gd name="adj1" fmla="val 50000"/>
              <a:gd name="adj2" fmla="val 38463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066320" y="762120"/>
            <a:ext cx="7543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линич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ла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Цитопатоге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фека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ултур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ки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1-7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а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окулациј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оказив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иоптичк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атеријал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јет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оза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ж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ез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џиновс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рануклеус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клузија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ролог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мар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,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Г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тент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лапс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↑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Ц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а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нча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имериз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ка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Н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илошк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теријал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066320" y="762120"/>
            <a:ext cx="7543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Лече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е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збо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ациклови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з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10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8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00-400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ј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рап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7-10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уж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вис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жи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инич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и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окал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потреб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с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ем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љ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иоискористљиво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валацицловир</a:t>
            </a:r>
            <a:r>
              <a:rPr b="1" lang="sr-Latn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пенцицловир</a:t>
            </a:r>
            <a:r>
              <a:rPr b="1" lang="sr-Latn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фамцицлови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зистен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циклови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фос</a:t>
            </a:r>
            <a:r>
              <a:rPr b="1" lang="sr-Latn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k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арне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40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8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уносупримира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филактич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ме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циклови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66320" y="765000"/>
            <a:ext cx="75438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ен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воланча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неар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Н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ди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јм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00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личит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те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г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ш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35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ипептид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еству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ђ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сти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ицирано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нтетиш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колик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ецифич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нз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Н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имера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миди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на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еда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нз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корпориса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но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стиц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360" y="228600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eaeaea"/>
                </a:solidFill>
                <a:latin typeface="Times New Roman"/>
              </a:rPr>
              <a:t>Epstein-Barr</a:t>
            </a:r>
            <a:r>
              <a:rPr b="1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eaeaea"/>
                </a:solidFill>
                <a:latin typeface="Times New Roman"/>
              </a:rPr>
              <a:t>вирусне</a:t>
            </a:r>
            <a:r>
              <a:rPr b="1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eaeaea"/>
                </a:solidFill>
                <a:latin typeface="Times New Roman"/>
              </a:rPr>
              <a:t>инфекције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800" spc="-1" strike="noStrike">
                <a:solidFill>
                  <a:srgbClr val="ffff00"/>
                </a:solidFill>
                <a:latin typeface="Times New Roman"/>
              </a:rPr>
              <a:t>ИНФЕКТИВНА</a:t>
            </a: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RS" sz="2800" spc="-1" strike="noStrike">
                <a:solidFill>
                  <a:srgbClr val="ffff00"/>
                </a:solidFill>
                <a:latin typeface="Times New Roman"/>
              </a:rPr>
              <a:t>МОНОНУКЛЕОЗА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кут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тикулоендотелн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имфатичн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исте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зрокова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Epstein-Barr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ovim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Ет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Фамил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Herpesvirida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убфамил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а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ерпе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ици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венстве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имфоцит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б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кпрес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Ц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2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цепто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ок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ликации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e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твар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e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нуклеусн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антиге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БВ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нти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ва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нтиге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утралишућ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a (6.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7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дељ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чет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ран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a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нтиге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БВЕ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тва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а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ч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пликаци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лог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нз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7.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а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сл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тва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нтител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ва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тиге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066320" y="8377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мембранск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антиге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БВ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нтител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јављ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р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олазн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аракте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е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нача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стављ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ијагноз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вирускапсидн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антиге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БВВЦ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г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твар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а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сл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в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дељ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Епидем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дређив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н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ЦАИг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80-90%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расл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ал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Б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роконверз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1.-6.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ди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симптоматс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роконверз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14.-20.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ди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тив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нонуклео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066320" y="2286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зервоа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ове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ни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ицонош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во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љувач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олел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об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онош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ропозитив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об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рвика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кре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ер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дек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агиознос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со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шл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треба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лиж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уж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ак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тев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ношењ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здуш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пљич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лис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ак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љубац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нсфуз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в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ксуа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о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тк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Picture 3" descr="2caf9f36d57137476d1290e3b22c7549"/>
          <p:cNvPicPr/>
          <p:nvPr/>
        </p:nvPicPr>
        <p:blipFill>
          <a:blip r:embed="rId9"/>
          <a:stretch/>
        </p:blipFill>
        <p:spPr>
          <a:xfrm>
            <a:off x="6400800" y="2133720"/>
            <a:ext cx="1809720" cy="158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066320" y="228240"/>
            <a:ext cx="7543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Фарингеал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кскре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љувачк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сл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кут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фаз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к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8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сец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15-20%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драв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расл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об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Б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живот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офарингеал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ицонош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атогене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љувач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ицира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об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зив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оци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љувач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очаст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ојеви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пител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офаринк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лаза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пителн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плика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↓  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итичк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фек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лаза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пљење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ицира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066320" y="8377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апосед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ов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инфицира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ћел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ет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“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обода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азм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но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з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ут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актив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имфоцит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лиферациј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циркула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става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лифер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оци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кив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куб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4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8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ељ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шир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ита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оретикулар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сте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066320" y="228240"/>
            <a:ext cx="7543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мунс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дгово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олифер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араже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имфоци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тив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ЦЦ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ецифич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пресорс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итотоксич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гово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наж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иклонс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лифер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оци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имптом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диц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тич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множавањ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оци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ги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аденопат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патоспленомегал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атентн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оци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смртно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сконач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об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в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990360" y="228240"/>
            <a:ext cx="7543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Т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супресорск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лимфоци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хиби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лифер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оци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итотоксичн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имфоци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ицира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оци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иркул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утралишућ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БВ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локир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ноше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инфицира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иркулациј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јављу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К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ћел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лектив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биј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држ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Б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здрављењ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еда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ро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ицира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оци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тент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ду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офаринкс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лобађ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те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љувач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уготрај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оноштв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990360" y="838080"/>
            <a:ext cx="75438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Хистопатолошки</a:t>
            </a:r>
            <a:r>
              <a:rPr b="1" i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нала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иперплаз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имф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чвор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олифер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ћел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Клиничка</a:t>
            </a:r>
            <a:r>
              <a:rPr b="1" i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куб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: 4-8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дељ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јчешћ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7-15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а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БВ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рект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тоге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ита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факто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ј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вод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ређе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ољењ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1066680" y="0"/>
          <a:ext cx="7543800" cy="6781680"/>
        </p:xfrm>
        <a:graphic>
          <a:graphicData uri="http://schemas.openxmlformats.org/drawingml/2006/table">
            <a:tbl>
              <a:tblPr/>
              <a:tblGrid>
                <a:gridCol w="3772080"/>
                <a:gridCol w="3771720"/>
              </a:tblGrid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R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имарна</a:t>
                      </a:r>
                      <a:r>
                        <a:rPr b="1" i="1" lang="sr-Latn-C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sr-R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нфекција</a:t>
                      </a:r>
                      <a:r>
                        <a:rPr b="1" lang="sr-Latn-C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R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еактивирана</a:t>
                      </a:r>
                      <a:r>
                        <a:rPr b="1" i="1" lang="sr-Latn-C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sr-R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нфекција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Асимптоматска</a:t>
                      </a:r>
                      <a:r>
                        <a:rPr b="1" lang="sr-Latn-C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сероконверзија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99ff33"/>
                          </a:solidFill>
                          <a:latin typeface="Times New Roman"/>
                        </a:rPr>
                        <a:t>Burkitt </a:t>
                      </a:r>
                      <a:r>
                        <a:rPr b="1" lang="sr-RS" sz="2400" spc="-1" strike="noStrike">
                          <a:solidFill>
                            <a:srgbClr val="99ff33"/>
                          </a:solidFill>
                          <a:latin typeface="Times New Roman"/>
                        </a:rPr>
                        <a:t>лимфом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Инфективна</a:t>
                      </a:r>
                      <a:r>
                        <a:rPr b="1" lang="sr-Latn-C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мононуклеоза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99ff33"/>
                          </a:solidFill>
                          <a:latin typeface="Times New Roman"/>
                        </a:rPr>
                        <a:t>Назофарингеални</a:t>
                      </a:r>
                      <a:r>
                        <a:rPr b="1" lang="sr-Latn-CS" sz="2400" spc="-1" strike="noStrike">
                          <a:solidFill>
                            <a:srgbClr val="99ff33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99ff33"/>
                          </a:solidFill>
                          <a:latin typeface="Times New Roman"/>
                        </a:rPr>
                        <a:t>карцином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Хронична</a:t>
                      </a:r>
                      <a:r>
                        <a:rPr b="1" lang="sr-Latn-C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инфективна</a:t>
                      </a:r>
                      <a:r>
                        <a:rPr b="1" lang="sr-Latn-C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мононуклеоза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99ff33"/>
                          </a:solidFill>
                          <a:latin typeface="Times New Roman"/>
                        </a:rPr>
                        <a:t>Рекурентни</a:t>
                      </a:r>
                      <a:r>
                        <a:rPr b="1" lang="sr-Latn-CS" sz="2400" spc="-1" strike="noStrike">
                          <a:solidFill>
                            <a:srgbClr val="99ff33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99ff33"/>
                          </a:solidFill>
                          <a:latin typeface="Times New Roman"/>
                        </a:rPr>
                        <a:t>паротитис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Примарна</a:t>
                      </a:r>
                      <a:r>
                        <a:rPr b="1" lang="sr-Latn-C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атипична</a:t>
                      </a:r>
                      <a:r>
                        <a:rPr b="1" lang="sr-Latn-C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ЕБВ</a:t>
                      </a:r>
                      <a:r>
                        <a:rPr b="1" lang="sr-Latn-C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инфекција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99ff33"/>
                          </a:solidFill>
                          <a:latin typeface="Times New Roman"/>
                        </a:rPr>
                        <a:t>Лимфопролиферативне</a:t>
                      </a:r>
                      <a:r>
                        <a:rPr b="1" lang="sr-Latn-CS" sz="2400" spc="-1" strike="noStrike">
                          <a:solidFill>
                            <a:srgbClr val="99ff33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99ff33"/>
                          </a:solidFill>
                          <a:latin typeface="Times New Roman"/>
                        </a:rPr>
                        <a:t>болести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За</a:t>
                      </a:r>
                      <a:r>
                        <a:rPr b="1" lang="sr-Latn-C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X </a:t>
                      </a:r>
                      <a:r>
                        <a:rPr b="1" lang="sr-R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хромозом</a:t>
                      </a:r>
                      <a:r>
                        <a:rPr b="1" lang="sr-Latn-C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везани</a:t>
                      </a:r>
                      <a:r>
                        <a:rPr b="1" lang="sr-Latn-C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лимфопролиферативни</a:t>
                      </a:r>
                      <a:r>
                        <a:rPr b="1" lang="sr-Latn-C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синдром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99ff33"/>
                          </a:solidFill>
                          <a:latin typeface="Times New Roman"/>
                        </a:rPr>
                        <a:t>Интерстицијални</a:t>
                      </a:r>
                      <a:r>
                        <a:rPr b="1" lang="sr-Latn-CS" sz="2400" spc="-1" strike="noStrike">
                          <a:solidFill>
                            <a:srgbClr val="99ff33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99ff33"/>
                          </a:solidFill>
                          <a:latin typeface="Times New Roman"/>
                        </a:rPr>
                        <a:t>пнеумонитис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Гениталне</a:t>
                      </a:r>
                      <a:r>
                        <a:rPr b="1" lang="sr-Latn-C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улцерације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99ff33"/>
                          </a:solidFill>
                          <a:latin typeface="Times New Roman"/>
                        </a:rPr>
                        <a:t>Увеитис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Хемофагиоцитни</a:t>
                      </a:r>
                      <a:r>
                        <a:rPr b="1" lang="sr-Latn-C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синдром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99ff33"/>
                          </a:solidFill>
                          <a:latin typeface="Times New Roman"/>
                        </a:rPr>
                        <a:t>Орална</a:t>
                      </a:r>
                      <a:r>
                        <a:rPr b="1" lang="sr-Latn-CS" sz="2400" spc="-1" strike="noStrike">
                          <a:solidFill>
                            <a:srgbClr val="99ff33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99ff33"/>
                          </a:solidFill>
                          <a:latin typeface="Times New Roman"/>
                        </a:rPr>
                        <a:t>власаста</a:t>
                      </a:r>
                      <a:r>
                        <a:rPr b="1" lang="sr-Latn-CS" sz="2400" spc="-1" strike="noStrike">
                          <a:solidFill>
                            <a:srgbClr val="99ff33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99ff33"/>
                          </a:solidFill>
                          <a:latin typeface="Times New Roman"/>
                        </a:rPr>
                        <a:t>леукоплакија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066320" y="620280"/>
            <a:ext cx="75438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ЛАСИФИКА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е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иолошк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собина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66ccff"/>
                </a:solidFill>
                <a:latin typeface="Times New Roman"/>
              </a:rPr>
              <a:t>Алфахерпесвируси</a:t>
            </a:r>
            <a:r>
              <a:rPr b="1" lang="sr-Latn-CS" sz="2400" spc="-1" strike="noStrike">
                <a:solidFill>
                  <a:srgbClr val="66cc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рз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аст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зазив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цитолиз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епителних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ћелиј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фиброблас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атент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</a:rPr>
              <a:t>неурон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erpes simplex virus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aricella-zoster vir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66ccff"/>
                </a:solidFill>
                <a:latin typeface="Times New Roman"/>
                <a:ea typeface="Times New Roman"/>
              </a:rPr>
              <a:t>Бетахерпесвирус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т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р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итомегалич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сив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већ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ицира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иброблас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тент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неутрофилима</a:t>
            </a:r>
            <a:r>
              <a:rPr b="1" lang="sr-Latn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моноцит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ytomegalovir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990360" y="228240"/>
            <a:ext cx="75438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ери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дојчад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а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еч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о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симптоматск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ероконверз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90%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роконверз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ра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5-24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ди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ич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инич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и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фективн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ононуклеоз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ише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лес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перату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1-3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ељ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сеудомембраноз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ги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нерализова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већ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воро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патоспленомегал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Лимфаденопат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јизразит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рат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ста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гл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мере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ке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вор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метрично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гуларн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гиј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уж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ЦМ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шић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игландулар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де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гл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већа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руг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гија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силар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понс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хеобронхијал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зентеријал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лико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р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ежа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ренаж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ел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ц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иорбита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де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о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ч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па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-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aglandov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на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066320" y="762120"/>
            <a:ext cx="7543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Анг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јчешћ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акунар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сеудомембраноз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слаг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онзила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диц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кроз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пител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нзила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зрокован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ам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ирус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тк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ри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олу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иоге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рочни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перинфек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сут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крам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ипертрофич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нзил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рофарингеалн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пструк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Angina confluens s. pseudomembranac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915080" y="1219320"/>
            <a:ext cx="392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Angina lacunar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Picture 4" descr="prostom02"/>
          <p:cNvPicPr/>
          <p:nvPr/>
        </p:nvPicPr>
        <p:blipFill>
          <a:blip r:embed="rId1"/>
          <a:stretch/>
        </p:blipFill>
        <p:spPr>
          <a:xfrm>
            <a:off x="762120" y="1447920"/>
            <a:ext cx="3429000" cy="2447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Angina_atticus"/>
          <p:cNvPicPr/>
          <p:nvPr/>
        </p:nvPicPr>
        <p:blipFill>
          <a:blip r:embed="rId2"/>
          <a:stretch/>
        </p:blipFill>
        <p:spPr>
          <a:xfrm>
            <a:off x="4724280" y="1447920"/>
            <a:ext cx="335304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066320" y="533520"/>
            <a:ext cx="7543800" cy="67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пленомегал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кор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н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патомегал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5-25%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олели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рз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већав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р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раћ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рмал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ниц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к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етљив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лпаци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ка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зистен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Нестални</a:t>
            </a:r>
            <a:r>
              <a:rPr b="1" lang="sr-Latn-C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симптоми</a:t>
            </a:r>
            <a:r>
              <a:rPr b="1" lang="sr-Latn-C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и</a:t>
            </a:r>
            <a:r>
              <a:rPr b="1" lang="sr-Latn-C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знаци</a:t>
            </a:r>
            <a:r>
              <a:rPr b="1" lang="sr-Latn-C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етехијални</a:t>
            </a:r>
            <a:r>
              <a:rPr b="1" lang="sr-Latn-C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енанте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врд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пц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ла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иктеру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кулоз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осп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ж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уп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рњ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кстремите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кулопапулоз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п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ни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че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мпицилин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и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конвалесцен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1-4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ељ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AutoShape 3"/>
          <p:cNvSpPr/>
          <p:nvPr/>
        </p:nvSpPr>
        <p:spPr>
          <a:xfrm>
            <a:off x="3429000" y="1447920"/>
            <a:ext cx="485640" cy="609480"/>
          </a:xfrm>
          <a:prstGeom prst="downArrow">
            <a:avLst>
              <a:gd name="adj1" fmla="val 50000"/>
              <a:gd name="adj2" fmla="val 31375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једи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ниц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себ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тариј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25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оди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ермитет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мо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уж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ди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веде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мптом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ц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ављ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ве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јед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минант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иничк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ц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г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ликова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едећ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инич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лиц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арингеални</a:t>
            </a:r>
            <a:r>
              <a:rPr b="1" i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</a:t>
            </a:r>
            <a:r>
              <a:rPr b="1" i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нгинозни</a:t>
            </a:r>
            <a:r>
              <a:rPr b="1" i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i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јчешћ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ландулар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ифоидни</a:t>
            </a:r>
            <a:r>
              <a:rPr b="1" i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ептич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рв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Комплик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јчешћ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енигн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о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тпу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здравље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95%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учаје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лик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рем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ут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ематолош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утоиму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молитич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ем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омбоцитопен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уролош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нинг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нингоенцефал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ирадикулонеур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рдиолош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пклинич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окард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3.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ељ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нал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ерстицијс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фр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улмолош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ерстицијс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неумон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епатич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пат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ут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суфицијен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ет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066320" y="60948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Руптур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слези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т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тал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лика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емофагоцитн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индр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контролиса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лифер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нонуклеар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гоцитн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сте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ст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рж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ет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ези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воров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в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гоциту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матопоетс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нцитопен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рт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х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унокомпетент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ступ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б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птур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ези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уролошк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лика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ут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стру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рњ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сај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те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о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мофагоцитн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ндро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761760" y="75960"/>
            <a:ext cx="784836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рансплант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ст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рж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И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    инфек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лиг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о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с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лик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лигн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олес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диц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нкоген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јст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тентн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н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кив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зофарингеа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рцин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rkitt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пов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dgkin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в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индром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роничног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мо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лађ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е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уж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6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сец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емећа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центр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вобољ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јалг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ртралг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аденопати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патоспленомегалиј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СВ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coplasm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neumoni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емећа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кре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ц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ронич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Б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со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тров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Ц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Б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1066320" y="151920"/>
            <a:ext cx="754380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линич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лтразвуч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ла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рбух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ематолош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лаз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еукоцит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латив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псолут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имфоцит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типич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имфоци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вироцит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”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оци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ћ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вал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убрежаст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едр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лаз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едар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итоплаз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ледопла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куолизира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нушас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М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пат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луенц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бел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иохемијс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лаз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80%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ни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↑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↑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Д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↑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%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ни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илируби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↑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ктеру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066320" y="152280"/>
            <a:ext cx="754380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олош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нализ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зол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ултур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ерифер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имфоци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ад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утинс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оказив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нтиге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оноклонс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нтител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Ц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Н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ибридизацио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етод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тк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оступ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ролош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нализ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Paul-Bunell-ov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е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глутин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вчиј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ритроци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специфича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ас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зитива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3.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дељ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85-90%)-4x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ра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ит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азмак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10-14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Ант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ВЦ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ИгМ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ЕЛИС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аје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.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ељ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стиж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р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3.-4.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ељ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зитив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2.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ељ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066320" y="228600"/>
            <a:ext cx="7543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66ccff"/>
                </a:solidFill>
                <a:latin typeface="Times New Roman"/>
              </a:rPr>
              <a:t>Гамахерпесвирус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по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плик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имфоид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ћелија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аће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њихов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рансформациј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атент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имфоцит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pstein-Barr-ov v irus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тент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оци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љувач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лезд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umani herpes virusi 6 i 7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тент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+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оци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ганотроп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рпе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ржа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ј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плику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пител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а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укокутан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ј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плику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оид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ган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имфопролиферативн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066320" y="8377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Лече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ртикостероид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раткотрај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ерап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ут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стру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рњ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сај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те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ж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утоиму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молиз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ем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омбоцитопен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ров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але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упљ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пиретиц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бра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кохол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патотоксич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к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пер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рњ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сај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те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бегава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мпицили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кролид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биоти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066320" y="0"/>
            <a:ext cx="7543800" cy="73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Јед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јзначајниј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арактеристи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ерпе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атен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живот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маћ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рпе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мплек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рицел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осте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рпе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урон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ензорних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англ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tomegalovirus→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утрофил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оноци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pstein-Barr virus→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имфоцит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ћелиј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љувачних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жлез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umani herpes 6, 7→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имфоци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umani herpes 8→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имфоцит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ононуклеарн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ћел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ћи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учаје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лаз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e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страхромозомс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гућ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ромозомс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егр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Epstein-Bar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066320" y="533160"/>
            <a:ext cx="7543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Епидем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Једи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зво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ове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тив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плик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мар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актив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оношт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ж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и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уготрај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рмолаби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о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етљив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љашњо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реди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опхода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лиск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нтак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ђ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оба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њихов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ноше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љубац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ксуа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нитоора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ак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ртикал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нсмис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М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Б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рансфузиј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рв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рансплантациј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рг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~PP2823.WAV" descr=""/>
          <p:cNvPicPr/>
          <p:nvPr/>
        </p:nvPicPr>
        <p:blipFill>
          <a:blip r:embed="rId4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8:33:31Z</dcterms:created>
  <dc:creator>MF</dc:creator>
  <dc:description/>
  <dc:language>en-US</dc:language>
  <cp:lastModifiedBy>Predrag Canovic</cp:lastModifiedBy>
  <dcterms:modified xsi:type="dcterms:W3CDTF">2023-02-03T01:22:44Z</dcterms:modified>
  <cp:revision>345</cp:revision>
  <dc:subject/>
  <dc:title>Slide 1</dc:title>
</cp:coreProperties>
</file>